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type.wav" ContentType="audio/x-wav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cashreg.wav" ContentType="audio/x-wav"/>
  <Override PartName="/ppt/media/image12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3.jpeg" ContentType="image/jpeg"/>
  <Override PartName="/ppt/media/projctor.wav" ContentType="audio/x-wav"/>
  <Override PartName="/ppt/media/image22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coin.wav" ContentType="audio/x-wav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4D8-519B-4FDE-A095-CCCD6EE0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975-A3EC-4D03-9422-B1C92D42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F30-0857-4CB0-9BF6-25EADD89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A5B-DE11-4A95-AB1C-DD944D7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D6D-7EDB-4D60-87AC-F7F05095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F4D3-A661-4F43-85B6-F89A62B1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44A2-42F8-40B2-869E-9AB58881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4C5B-048A-49CF-A56E-B0E15ECB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026C-F581-4383-81DC-4BD37323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AF18-BDAC-463A-9F23-15BEFCA3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D566-3C36-49F4-B5C6-4ABC969F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039-41B2-4FBB-BD69-F0FFB21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982-3A01-4AB3-9716-64DAE05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85FA-850E-4956-9A66-097788B9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FB0-A3F1-46E1-AD6A-2A2F111F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CCDF-77B6-41A1-8B64-33117850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AB5D-13C0-4E92-B9B2-FFA1FFE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39A-6076-4207-9AA5-700528B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FA2-88E1-4405-8E91-C0C6EAF3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C42-59F6-4466-A9FB-BEDE16C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900-A7DF-498C-9555-C87BF330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F77-72D7-44EF-A8BF-1AF5B465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9E9-4DD4-42F3-9FC5-87A36F3D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C5E-88E9-4D95-947C-DCC68CB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A2A-CA84-4048-8C14-48BC5C1281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B7E-2155-47F9-8D84-13677454E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0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1.xm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2.xml"/><Relationship Id="rId3" Type="http://schemas.openxmlformats.org/officeDocument/2006/relationships/audio" Target="../media/cashreg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slide14.xm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5.xml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635280" y="2421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8288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小学语文第九册第三单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初读课文，整体感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112536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拼读生字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鲸　获　肢　滤　吨　肺　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什么说鲸是哺乳动物？课文是从哪几个方面讲鲸的生活习性的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把由于环境变化，鲸逐渐发生变化的句子画下来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2720" y="1647720"/>
            <a:ext cx="828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少人看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象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都说象是很大的动物。其实还有比象大得多的动物，那就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鲸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最大的鲸有１６万公斤，最小的也有２０００公斤。我国捕获过一头４万公斤重的鲸，有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长，一条舌头就有十几头大肥猪那么重。它要是张开嘴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人站在它的嘴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举起手来还摸不到它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上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四个人围着桌子坐在它的嘴里看书，还显得很宽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981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一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1628640"/>
            <a:ext cx="8458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鲸生活在海洋里，因为体形像鱼，许多人管它叫鲸鱼。其实它不属于鱼类，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哺乳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在很远的古代，鲸的祖先跟牛羊的祖先一样，生活在陆地上。后来环境发生了变化，鲸的祖先生活在靠近陆地的浅海里；又经过了很长很长的年代，它们的前肢和尾巴渐渐变成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鳍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后肢完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退化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了，整个身子成了鱼的样子，适应了海洋的生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981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二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13413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三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2637000"/>
            <a:ext cx="73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鲸的种类很多，总的来说可以分为两大类；一类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须鲸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没有牙齿；一类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齿鲸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有锋利的牙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1844640"/>
            <a:ext cx="8458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鲸的身子这么大，它们吃什么呢？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须鲸主要吃虾和小鱼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它们在海里游的时候，张着大嘴，把许多小鱼小虾连同海水一齐吸进嘴里，然后闭上嘴，把海水从须板中间滤出来，把小鱼小虾吞进肚子里，一顿就可以吃２０００多公斤。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齿鲸主要吃大鱼和海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它们遇到大鱼和海兽，就凶猛地扑上去，用锋利的牙齿咬住，很快就吃掉。有一种号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中之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虎鲸，常常好几十头结成一群，围住了一头３０多吨重的长须鲸，几个小时就把它吃光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91584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四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7740720" y="6210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628640"/>
            <a:ext cx="84582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鲸跟牛羊一样用肺呼吸，也说明它不属于鱼类。鲸的鼻孔长在脑袋上，呼气的时候浮在水面，从鼻孔喷出来的气形成一股水柱，就像花园里的喷泉一样；等肺里吸足了气，再潜入水中。鲸隔一定的时间必须呼吸一次。不同类的鲸，喷出的气形成的水柱也不一样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须鲸的水柱是垂直的，又细又高；齿鲸的水柱是倾斜的，又粗又矮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有经验的渔民根据水柱的形状，就可以判断鲸的种类和大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981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五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7812000" y="6210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24210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     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鲸每天都要睡觉。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睡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的时候，总是几头聚在一起，找一个比较安全的地方，头朝里，尾巴向外，围成一圈，静静地浮在海面上。听到什么声响，它们立即四散游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1268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六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84200" y="333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细读课文，深入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060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鲸是胎生的，幼鲸靠吃母鲸的奶长大。这些特征也说明鲸是哺乳动物。长须鲸刚生下来就有１０多米长，７０００公斤重，一天能长３０公斤到５０公斤，两三年就可以长成大鲸。鲸的寿命很长，一般可以活几十年到一百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1268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七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908000" y="2324160"/>
            <a:ext cx="5112000" cy="3841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89000"/>
            <a:ext cx="843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隶书"/>
              </a:rPr>
              <a:t>象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哺乳动物，是陆地上最大的动物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549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鲸与大象、人的比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0360" y="4437000"/>
            <a:ext cx="1008000" cy="1440000"/>
          </a:xfrm>
          <a:prstGeom prst="wedgeRoundRectCallout">
            <a:avLst>
              <a:gd name="adj1" fmla="val 86222"/>
              <a:gd name="adj2" fmla="val -169513"/>
              <a:gd name="adj3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黑体"/>
              </a:rPr>
              <a:t>上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59120" y="266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6200" y="2595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Arial"/>
                <a:ea typeface="华文隶书"/>
              </a:rPr>
              <a:t>导入新课</a:t>
            </a:r>
            <a:r>
              <a:rPr b="0" lang="zh-CN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98100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　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世界上生存着各种各样的动物，有的生活在陆地上，有的生活在海洋里，那你知道世界上最大的动物生活在哪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357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　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在宽阔的海洋里，有各种各样的动物自由自在地生活、嬉戏，其中有一种庞大的生物，它就是世界上最大的动物，你知道它是谁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H="1">
            <a:off x="1258560" y="1197000"/>
            <a:ext cx="129708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555640" y="1197000"/>
            <a:ext cx="215640" cy="10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1197000"/>
            <a:ext cx="230364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92200" y="260280"/>
            <a:ext cx="7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Arial"/>
                <a:ea typeface="黑体"/>
              </a:rPr>
              <a:t>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85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385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38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87280" y="1844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哺乳动物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最高等的脊椎动物，基本特点是用母乳哺育初生幼儿。例如，人就是最高级的哺乳动物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>
            <a:off x="990720" y="457200"/>
            <a:ext cx="2573280" cy="703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名词解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87280" y="1844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退化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指生物在进化过程中，某一部分的器官变小，构造简化，机能减退直到完全消失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例如，古代猿人进化到人时，尾巴就消失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990720" y="457200"/>
            <a:ext cx="2573280" cy="703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名词解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87280" y="213372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胎生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人或某些动物的幼体在母体内发育到一定阶段以后脱离母体，叫胎生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990720" y="457200"/>
            <a:ext cx="2573280" cy="703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名词解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80880" y="1454040"/>
            <a:ext cx="8382240" cy="449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990720" y="457200"/>
            <a:ext cx="1828800" cy="703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须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24000" y="1754280"/>
            <a:ext cx="8534160" cy="428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1066680" y="380880"/>
            <a:ext cx="1828800" cy="703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齿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71640" y="333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须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的食物：是虾和小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313080" cy="2525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56000" y="4070520"/>
            <a:ext cx="3384720" cy="2311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4356000" y="1386000"/>
            <a:ext cx="3384720" cy="24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35640" y="4411800"/>
            <a:ext cx="2641680" cy="941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752560" y="711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齿鲸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的食物是：大鱼和海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580000" y="2151000"/>
            <a:ext cx="2573280" cy="1581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4322880" cy="307656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09880" y="1219320"/>
            <a:ext cx="281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16000" y="5300640"/>
            <a:ext cx="6696000" cy="936720"/>
            <a:chOff x="1116000" y="5300640"/>
            <a:chExt cx="6696000" cy="936720"/>
          </a:xfrm>
        </p:grpSpPr>
        <p:sp>
          <p:nvSpPr>
            <p:cNvPr id="338" name=""/>
            <p:cNvSpPr/>
            <p:nvPr/>
          </p:nvSpPr>
          <p:spPr>
            <a:xfrm>
              <a:off x="1116000" y="5300640"/>
              <a:ext cx="6458040" cy="93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1855" y="2636"/>
                  </a:moveTo>
                  <a:lnTo>
                    <a:pt x="22110" y="2636"/>
                  </a:lnTo>
                  <a:lnTo>
                    <a:pt x="22110" y="-18122"/>
                  </a:lnTo>
                  <a:lnTo>
                    <a:pt x="17522" y="-38880"/>
                  </a:lnTo>
                </a:path>
                <a:path w="21600" h="21600">
                  <a:moveTo>
                    <a:pt x="21855" y="0"/>
                  </a:moveTo>
                  <a:lnTo>
                    <a:pt x="21855" y="21600"/>
                  </a:lnTo>
                </a:path>
              </a:pathLst>
            </a:custGeom>
            <a:noFill/>
            <a:ln w="41400">
              <a:solidFill>
                <a:srgbClr val="ff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87280" y="5442120"/>
              <a:ext cx="66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Arial"/>
                  <a:ea typeface="黑体"/>
                </a:rPr>
                <a:t>齿鲸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的水柱是倾斜的，又粗又矮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076720" y="476280"/>
            <a:ext cx="3564000" cy="1152360"/>
          </a:xfrm>
          <a:prstGeom prst="borderCallout1">
            <a:avLst>
              <a:gd name="adj1" fmla="val -14846"/>
              <a:gd name="adj2" fmla="val -1428"/>
              <a:gd name="adj3" fmla="val 20907"/>
              <a:gd name="adj4" fmla="val -1428"/>
            </a:avLst>
          </a:prstGeom>
          <a:noFill/>
          <a:ln w="414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须鲸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的水柱是垂直的，又细又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7954920" y="6165720"/>
            <a:ext cx="865080" cy="53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rId2" action="ppaction://hlinksldjump"/>
          </p:cNvPr>
          <p:cNvSpPr/>
          <p:nvPr/>
        </p:nvSpPr>
        <p:spPr>
          <a:xfrm>
            <a:off x="7954920" y="6021360"/>
            <a:ext cx="865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1066680" y="380880"/>
            <a:ext cx="2928960" cy="64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鲸群在睡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468360" y="404640"/>
            <a:ext cx="5160960" cy="64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幼鲸靠吃母鲸的奶长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>
            <a:hlinkClick r:id="rId2" action="ppaction://hlinksldjump"/>
          </p:cNvPr>
          <p:cNvSpPr/>
          <p:nvPr/>
        </p:nvSpPr>
        <p:spPr>
          <a:xfrm>
            <a:off x="7954920" y="6021360"/>
            <a:ext cx="865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8762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课堂小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63640" y="3141720"/>
            <a:ext cx="6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27280" y="1268280"/>
            <a:ext cx="1008000" cy="446436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116280 h 4464360"/>
              <a:gd name="textAreaBottom" fmla="*/ 434808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1280" y="92700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鲸非常大：１６万公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51280" y="164772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鲸不是鱼：哺乳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16360" y="263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211640" y="2276640"/>
            <a:ext cx="2434320" cy="1495440"/>
            <a:chOff x="4211640" y="2276640"/>
            <a:chExt cx="2434320" cy="1495440"/>
          </a:xfrm>
        </p:grpSpPr>
        <p:sp>
          <p:nvSpPr>
            <p:cNvPr id="355" name=""/>
            <p:cNvSpPr/>
            <p:nvPr/>
          </p:nvSpPr>
          <p:spPr>
            <a:xfrm>
              <a:off x="4211640" y="2492280"/>
              <a:ext cx="73080" cy="10796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41360" y="227664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须鲸：无牙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41360" y="306864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齿鲸：有牙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874960" y="4157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178160" y="3716280"/>
            <a:ext cx="1762200" cy="2432160"/>
            <a:chOff x="4178160" y="3716280"/>
            <a:chExt cx="1762200" cy="2432160"/>
          </a:xfrm>
        </p:grpSpPr>
        <p:sp>
          <p:nvSpPr>
            <p:cNvPr id="360" name=""/>
            <p:cNvSpPr/>
            <p:nvPr/>
          </p:nvSpPr>
          <p:spPr>
            <a:xfrm>
              <a:off x="4178160" y="4013280"/>
              <a:ext cx="106560" cy="1863720"/>
            </a:xfrm>
            <a:custGeom>
              <a:avLst/>
              <a:gdLst>
                <a:gd name="textAreaLeft" fmla="*/ 68040 w 106560"/>
                <a:gd name="textAreaRight" fmla="*/ 106920 w 106560"/>
                <a:gd name="textAreaTop" fmla="*/ 48600 h 1863720"/>
                <a:gd name="textAreaBottom" fmla="*/ 1815120 h 18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429264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呼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9320" y="371628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吃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59320" y="486900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睡觉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9320" y="544500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生长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17600" y="1012680"/>
            <a:ext cx="84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（１）课文中哪些地方用列举数字的方法加以说明？这样写有什么好处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280" y="2384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表示体重、身长的数字，突出鲸是很大的动物的特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7600" y="367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表示食物重量的数字，突出了鲸的食量大、吃得快的特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75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其他数字，突出了鲸大、生长快、寿命长的特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762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课堂练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1447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（２）从课文中哪些地方知道鲸是哺乳动物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03280" y="328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用肺呼吸、胎生、幼鲸吃母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762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课堂练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762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隶书"/>
              </a:rPr>
              <a:t>拓展练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270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用本文描写鲸的方法学写一篇描写动物的小作文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119400" y="2492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隶书"/>
              </a:rPr>
              <a:t>同学们，再见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8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96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18446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　　</a:t>
            </a:r>
            <a:r>
              <a:rPr b="0" lang="zh-CN" sz="4000" spc="-1" strike="noStrike">
                <a:solidFill>
                  <a:srgbClr val="ccff33"/>
                </a:solidFill>
                <a:latin typeface="Arial"/>
                <a:ea typeface="华文新魏"/>
              </a:rPr>
              <a:t>通过刚才图片的观察，大家是否对这种庞大的动物有了初步的认识？今天这节课我们就来认识下这种世界上最大的动物——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7812000" y="6021360"/>
            <a:ext cx="1081080" cy="53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>
                  <a:alpha val="89019"/>
                </a:srgbClr>
              </a:gs>
              <a:gs pos="100000">
                <a:srgbClr val="daae00">
                  <a:alpha val="86274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下一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4:18:53Z</dcterms:created>
  <dc:creator>冯道明</dc:creator>
  <dc:description/>
  <dc:language>en-US</dc:language>
  <cp:lastModifiedBy>china</cp:lastModifiedBy>
  <dcterms:modified xsi:type="dcterms:W3CDTF">2011-10-10T02:15:13Z</dcterms:modified>
  <cp:revision>45</cp:revision>
  <dc:subject/>
  <dc:title>幻灯片 1</dc:title>
</cp:coreProperties>
</file>